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44C-2EE4-46F5-8BC9-969B1967A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397-CA11-414A-8E10-B7F59B360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FEC-FF5C-4DBC-A4E5-79BCEF400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4E93-06FD-4322-BC63-64F6D4EB8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900-03ED-4001-A86E-9B4EFEA15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0D4-3C4D-46EC-8D4E-2C81E86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454-C6D9-4F98-BC4E-60EA604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2FB-8F92-432F-91BA-E38870A5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BB8-DEC4-446B-B8BC-5B11A898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91B-884C-46EC-8436-62C75F43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359-30AC-46AB-9216-795E846A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119-D018-4CAC-B48E-17E4C5D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555-29EE-4D3E-927A-84FA322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C6D-CA39-4A2E-83AD-8629DDAD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F15-C55D-4CE5-A744-E5CB8EB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342-3D27-45FB-A04F-A93D59A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8E2-8386-4865-BDE4-A171B84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308-0A71-4960-BDAD-C057F1EE4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nsportal.ru/sites/default/files/2013/1/razrabotka_uroka_po_himii_dlya_8_klassa_po_teme.doc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классы мы уже изуч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ются оксид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ксид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ется основ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снова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ы, каких металлов являются щелоч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няется цвет индикаторов в щелочной сред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индика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дреса интернет -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ch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sportal.ru/sites/default/files/2013/1/razrabotka_uroka_po_himii_dlya_8_klassa_po_teme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cid1-02"/>
          <p:cNvPicPr/>
          <p:nvPr/>
        </p:nvPicPr>
        <p:blipFill>
          <a:blip r:embed="rId4"/>
          <a:stretch/>
        </p:blipFill>
        <p:spPr>
          <a:xfrm>
            <a:off x="4788000" y="1484280"/>
            <a:ext cx="374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физических свойств обратимся к тексту учебника. Прочтите текст на с. 105 и назовите основные физические свойства серной кислоты. Сделайте запись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s://www.syl.ru/misc/i/ai/148985/463470.jpg"/>
          <p:cNvPicPr/>
          <p:nvPr/>
        </p:nvPicPr>
        <p:blipFill>
          <a:blip r:embed="rId1"/>
          <a:stretch/>
        </p:blipFill>
        <p:spPr>
          <a:xfrm>
            <a:off x="3500280" y="4143240"/>
            <a:ext cx="50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м, друзья, сейч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гл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смотре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се повесел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верх и сверху вн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хрусталик, не серд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потолок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ыщи там уго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мышцы крепче ста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 мы по диагонал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будем циркуль бр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зглядом круг пис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280" y="2276280"/>
            <a:ext cx="303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http://www.clipartbest.com/cliparts/yTk/aRz/yTkaRzojc.png"/>
          <p:cNvPicPr/>
          <p:nvPr/>
        </p:nvPicPr>
        <p:blipFill>
          <a:blip r:embed="rId1"/>
          <a:stretch/>
        </p:blipFill>
        <p:spPr>
          <a:xfrm>
            <a:off x="514836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«Изменение цвета индикатора в кислой сред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м даны пробирки с кислот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помощью пипетки  по каплям добавьте в каждую пробирку с кислотой по одному индикатор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йте краткую запись результа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кмус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оранж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олфталеин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4"/>
          <p:cNvSpPr/>
          <p:nvPr/>
        </p:nvSpPr>
        <p:spPr>
          <a:xfrm>
            <a:off x="2286000" y="4714920"/>
            <a:ext cx="642960" cy="571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5"/>
          <p:cNvSpPr/>
          <p:nvPr/>
        </p:nvSpPr>
        <p:spPr>
          <a:xfrm>
            <a:off x="3214800" y="5286240"/>
            <a:ext cx="642960" cy="5716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6"/>
          <p:cNvSpPr/>
          <p:nvPr/>
        </p:nvSpPr>
        <p:spPr>
          <a:xfrm>
            <a:off x="3571920" y="6000840"/>
            <a:ext cx="642960" cy="5713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http://site-290560.mozfiles.com/files/290560/img16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личественное значение рН раство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357200"/>
          <a:ext cx="8286840" cy="342900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Числовое значение 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арактер среды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створ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26" descr="https://telegraf.com.ua/files/2015/07/1057.jpg"/>
          <p:cNvPicPr/>
          <p:nvPr/>
        </p:nvPicPr>
        <p:blipFill>
          <a:blip r:embed="rId1"/>
          <a:stretch/>
        </p:blipFill>
        <p:spPr>
          <a:xfrm>
            <a:off x="6786720" y="5214960"/>
            <a:ext cx="184608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zhaba.ru/storage-10667/images-7693/6f7f2c37ce11c6e323c7b2121a813bbd_27693.gif"/>
          <p:cNvPicPr/>
          <p:nvPr/>
        </p:nvPicPr>
        <p:blipFill>
          <a:blip r:embed="rId2"/>
          <a:stretch/>
        </p:blipFill>
        <p:spPr>
          <a:xfrm>
            <a:off x="714240" y="5072040"/>
            <a:ext cx="1500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ест по теме «Кисло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5" descr="http://i.ucrazy.ru/files/i/2010.3.17/1268836784_x_3f222357.jpg"/>
          <p:cNvPicPr/>
          <p:nvPr/>
        </p:nvPicPr>
        <p:blipFill>
          <a:blip r:embed="rId1"/>
          <a:stretch/>
        </p:blipFill>
        <p:spPr>
          <a:xfrm>
            <a:off x="6858000" y="3286080"/>
            <a:ext cx="1835280" cy="27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иллюстрация профессора химии работает в лаборатории Фото со стока - 32519342"/>
          <p:cNvPicPr/>
          <p:nvPr/>
        </p:nvPicPr>
        <p:blipFill>
          <a:blip r:embed="rId2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иллюстрация профессора химии работает в лаборатории Фото со стока - 32519342"/>
          <p:cNvPicPr/>
          <p:nvPr/>
        </p:nvPicPr>
        <p:blipFill>
          <a:blip r:embed="rId3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. Выберите группу веществ, в которой указаны только формулы кислот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42920" y="2060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87280" y="3068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87280" y="42210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s://odnagazeta.com/images/adv2/511626/360470.jpg"/>
          <p:cNvPicPr/>
          <p:nvPr/>
        </p:nvPicPr>
        <p:blipFill>
          <a:blip r:embed="rId1"/>
          <a:srcRect l="7553" t="20150" r="5569" b="0"/>
          <a:stretch/>
        </p:blipFill>
        <p:spPr>
          <a:xfrm>
            <a:off x="6143760" y="4929120"/>
            <a:ext cx="25606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 Выберите группу, в которой указаны формулы только кислородсодержащих кислот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1293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050920" y="3429000"/>
            <a:ext cx="597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484360" y="4365720"/>
            <a:ext cx="6131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ttps://www.metod-kopilka.ru/images/doc/13/6866/img27.jpg"/>
          <p:cNvPicPr/>
          <p:nvPr/>
        </p:nvPicPr>
        <p:blipFill>
          <a:blip r:embed="rId1"/>
          <a:srcRect l="5771" t="17957" r="30737" b="5094"/>
          <a:stretch/>
        </p:blipFill>
        <p:spPr>
          <a:xfrm>
            <a:off x="214200" y="4714920"/>
            <a:ext cx="23576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берите группу, в которой указаны формулы только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дноосновн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shishebarova.ucoz.ru/color.gif"/>
          <p:cNvPicPr/>
          <p:nvPr/>
        </p:nvPicPr>
        <p:blipFill>
          <a:blip r:embed="rId1"/>
          <a:stretch/>
        </p:blipFill>
        <p:spPr>
          <a:xfrm>
            <a:off x="6286680" y="2428920"/>
            <a:ext cx="2284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утешествие в страну Кисло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\Рабочий стол\File0785.TIF"/>
          <p:cNvPicPr/>
          <p:nvPr/>
        </p:nvPicPr>
        <p:blipFill>
          <a:blip r:embed="rId1"/>
          <a:srcRect l="3200" t="19207" r="27689" b="15311"/>
          <a:stretch/>
        </p:blipFill>
        <p:spPr>
          <a:xfrm>
            <a:off x="3059280" y="364500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555"/>
          <p:cNvPicPr/>
          <p:nvPr/>
        </p:nvPicPr>
        <p:blipFill>
          <a:blip r:embed="rId2"/>
          <a:stretch/>
        </p:blipFill>
        <p:spPr>
          <a:xfrm>
            <a:off x="6372360" y="260280"/>
            <a:ext cx="22557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Наталья\Мои документы\Мои рисунки\img318.jpg"/>
          <p:cNvPicPr/>
          <p:nvPr/>
        </p:nvPicPr>
        <p:blipFill>
          <a:blip r:embed="rId3"/>
          <a:srcRect l="2438" t="3589" r="9266" b="0"/>
          <a:stretch/>
        </p:blipFill>
        <p:spPr>
          <a:xfrm>
            <a:off x="611280" y="260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71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Под действием растворов кислот лакмус синий становится: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887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а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2781360"/>
            <a:ext cx="488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зменяет окра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3500280"/>
            <a:ext cx="488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635280" y="4437000"/>
            <a:ext cx="4888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оле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artinki-vernisazh.ru/_ph/234/2/341126398.jpg"/>
          <p:cNvPicPr/>
          <p:nvPr/>
        </p:nvPicPr>
        <p:blipFill>
          <a:blip r:embed="rId1"/>
          <a:stretch/>
        </p:blipFill>
        <p:spPr>
          <a:xfrm>
            <a:off x="428760" y="2786040"/>
            <a:ext cx="2570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5. При разбавлении кислоты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184464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приливают к кисл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627280" y="2781360"/>
            <a:ext cx="597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Кислоту приливают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50920" y="371628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и кислоту смешивают одновре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86sch3-nyagan.edusite.ru/images/25_1.gif"/>
          <p:cNvPicPr/>
          <p:nvPr/>
        </p:nvPicPr>
        <p:blipFill>
          <a:blip r:embed="rId1"/>
          <a:stretch/>
        </p:blipFill>
        <p:spPr>
          <a:xfrm>
            <a:off x="6715080" y="4071960"/>
            <a:ext cx="21430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 к тест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Б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цените себ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3  правильных ответ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4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4 правильных ответов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«5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5 правильных отве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-  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личию атомов кислорода кислоты делятся 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атомов водорода кислоты делятся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е значение рН изменяется от…….и до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s://myslide.ru/documents_2/106b39a2d8cfa407db9cc3ede480be6c/img16.jpg"/>
          <p:cNvPicPr/>
          <p:nvPr/>
        </p:nvPicPr>
        <p:blipFill>
          <a:blip r:embed="rId1"/>
          <a:srcRect l="28266" t="18066" r="26192" b="31836"/>
          <a:stretch/>
        </p:blipFill>
        <p:spPr>
          <a:xfrm>
            <a:off x="6215040" y="4500720"/>
            <a:ext cx="2311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210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2" descr="https://mrsvacosta.files.wordpress.com/2011/06/mad_science_flask_girl_yq8e.jpg"/>
          <p:cNvPicPr/>
          <p:nvPr/>
        </p:nvPicPr>
        <p:blipFill>
          <a:blip r:embed="rId1"/>
          <a:stretch/>
        </p:blipFill>
        <p:spPr>
          <a:xfrm>
            <a:off x="428760" y="4071960"/>
            <a:ext cx="192852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2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3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4"/>
          <a:srcRect l="16781" t="11546" r="21707" b="0"/>
          <a:stretch/>
        </p:blipFill>
        <p:spPr>
          <a:xfrm>
            <a:off x="6724800" y="401004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686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раграф 20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формулы кисл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 упр.1 стр.1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ое зад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интересные сообщения, либо презентации о кислот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http://www.birmaga.ru/dosta/%D0%92%D0%B5%D1%89%D0%B5%D1%81%D1%82%D0%B2%D0%BE+%D0%B8+%D0%B5%D0%B3%D0%BE+%D1%81%D1%82%D1%80%D0%BE%D0%B5%D0%BD%D0%B8%D0%B5a/344763_html_2424a2a3.jpg"/>
          <p:cNvPicPr/>
          <p:nvPr/>
        </p:nvPicPr>
        <p:blipFill>
          <a:blip r:embed="rId1"/>
          <a:srcRect l="-4264" t="0" r="-17461" b="6945"/>
          <a:stretch/>
        </p:blipFill>
        <p:spPr>
          <a:xfrm>
            <a:off x="5357880" y="150012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000" y="357480"/>
            <a:ext cx="7704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ЛАГОДАРЮ ЗА УРОК !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УСПЕХОВ ВА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5264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номенклатуру, классификацию и физические свойства кисло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s://st03.kakprosto.ru/tumb/680/images/article/2012/4/22/1_5254ff302b7ec5254ff302b82a.jpg"/>
          <p:cNvPicPr/>
          <p:nvPr/>
        </p:nvPicPr>
        <p:blipFill>
          <a:blip r:embed="rId1"/>
          <a:stretch/>
        </p:blipFill>
        <p:spPr>
          <a:xfrm>
            <a:off x="4648320" y="3643200"/>
            <a:ext cx="37861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менклатура 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052640"/>
            <a:ext cx="42447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гольна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азот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от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P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тофосф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хл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H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SiO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мниев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125000"/>
            <a:ext cx="4387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F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тороводородная (плавиков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Br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м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I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йод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ероводород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иниль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слоты -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ожные вещества, состоящие из атомов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Calibri"/>
              </a:rPr>
              <a:t>водо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ислотного оста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428840" y="3643200"/>
            <a:ext cx="554508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4787640" y="270828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556000" y="2708280"/>
            <a:ext cx="93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O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P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reaktiv-bel.ru/upload/iblock/b8d/b8daecbbed82f9597dae556ee320c1fa.jpg"/>
          <p:cNvPicPr/>
          <p:nvPr/>
        </p:nvPicPr>
        <p:blipFill>
          <a:blip r:embed="rId1"/>
          <a:srcRect l="38241" t="3675" r="8819" b="4413"/>
          <a:stretch/>
        </p:blipFill>
        <p:spPr>
          <a:xfrm>
            <a:off x="357120" y="37861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surgut7.ru/board_foto/1449726580foto1_big.jpg"/>
          <p:cNvPicPr/>
          <p:nvPr/>
        </p:nvPicPr>
        <p:blipFill>
          <a:blip r:embed="rId2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primorye24.ru/uploads/media/news/0001/04/thumb_3263_news_xl_crop.jpeg"/>
          <p:cNvPicPr/>
          <p:nvPr/>
        </p:nvPicPr>
        <p:blipFill>
          <a:blip r:embed="rId3"/>
          <a:stretch/>
        </p:blipFill>
        <p:spPr>
          <a:xfrm>
            <a:off x="2071800" y="2357280"/>
            <a:ext cx="243828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surgut7.ru/board_foto/1449726580foto1_big.jpg"/>
          <p:cNvPicPr/>
          <p:nvPr/>
        </p:nvPicPr>
        <p:blipFill>
          <a:blip r:embed="rId4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4896000" y="2457360"/>
            <a:ext cx="3887640" cy="841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N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6"/>
          <p:cNvSpPr/>
          <p:nvPr/>
        </p:nvSpPr>
        <p:spPr>
          <a:xfrm>
            <a:off x="1857240" y="5438880"/>
            <a:ext cx="355788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Бес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P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5349960" y="5567400"/>
            <a:ext cx="2916000" cy="861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S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11"/>
          <p:cNvCxnSpPr>
            <a:stCxn id="72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>
            <a:endCxn id="74" idx="0"/>
          </p:cNvCxnSpPr>
          <p:nvPr/>
        </p:nvCxnSpPr>
        <p:spPr>
          <a:xfrm>
            <a:off x="6190200" y="1744560"/>
            <a:ext cx="6498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20"/>
          <p:cNvCxnSpPr>
            <a:endCxn id="76" idx="0"/>
          </p:cNvCxnSpPr>
          <p:nvPr/>
        </p:nvCxnSpPr>
        <p:spPr>
          <a:xfrm>
            <a:off x="3146400" y="3428640"/>
            <a:ext cx="48960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4"/>
          <p:cNvCxnSpPr>
            <a:endCxn id="79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>
            <a:stCxn id="74" idx="3"/>
          </p:cNvCxnSpPr>
          <p:nvPr/>
        </p:nvCxnSpPr>
        <p:spPr>
          <a:xfrm flipH="1">
            <a:off x="4441320" y="3174480"/>
            <a:ext cx="102312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их кислот в свободном виде н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елка вверх указывает, что это г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kartik.ru/wp-content/uploads/2017/07/den-himika-kartinki-149037.jpg"/>
          <p:cNvPicPr/>
          <p:nvPr/>
        </p:nvPicPr>
        <p:blipFill>
          <a:blip r:embed="rId1"/>
          <a:srcRect l="0" t="27370" r="2335" b="2509"/>
          <a:stretch/>
        </p:blipFill>
        <p:spPr>
          <a:xfrm>
            <a:off x="6878520" y="4714920"/>
            <a:ext cx="2122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7:09:04Z</dcterms:created>
  <dc:creator>user</dc:creator>
  <dc:description/>
  <dc:language>en-US</dc:language>
  <cp:lastModifiedBy>Наталья</cp:lastModifiedBy>
  <dcterms:modified xsi:type="dcterms:W3CDTF">2021-12-10T13:55:48Z</dcterms:modified>
  <cp:revision>123</cp:revision>
  <dc:subject/>
  <dc:title>Слайд 1</dc:title>
</cp:coreProperties>
</file>